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D42-CBAA-4795-B652-A8B24C2E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7BC-C7E3-448F-93C8-5FCF8166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A84-EDFC-4A9C-BE66-FE68F9E0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537-FBD1-4D99-BF05-C98FE5D9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6CAD-9A42-43D9-B0F7-5C472D51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EA6E-0192-485A-9A95-142727AE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5B36-AE62-4BA5-9A95-550F1BAE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D7D2-71C2-4816-B538-7B7CCD4D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934B-B82E-4543-A480-8DCB26F0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B789-ADCF-4803-A421-C8587494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2EBF-F215-4598-A7FD-9A2B0FB6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B1C-04BB-4397-8BDD-23ADA948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4CEC-DAB8-4BB2-812C-54CB2A5F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5135-C399-4465-9F4C-2E69BE76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FE5F-0025-4FCD-B3E0-8AAB552F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BD1A-E311-4C5F-856F-DB3E6B26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1B31-E2E6-4398-8CED-4009E1F2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935-DD9B-41E9-A35F-A6B5414A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07B-4777-4755-BCB7-0C802F05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C1D-87BD-4640-B025-9E129FD1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8801-44B4-4D32-A1C1-D636FF74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455-BDC0-4C2F-8FD8-C37D5639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E285-57EB-458F-9C7F-C1319F45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85C8-C58F-4E28-8D0C-C5B95132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1501-0806-46FE-B67F-C345AE143C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66D1-6D79-46FB-8740-26A20B1B42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 20 - 24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Inheritance of the Levites and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he Land Promise Fulfilled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Quarter 3; Lesson 7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ages 42 -48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 the Days of the Judges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Bones of Joseph Buried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24:32-3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oseph had requested that his bones be carried from Egypt (Gen. 50:25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ses took his bones out (Ex. 13:19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w, his bones are buried in Shechem, in land bought by his father (Gen. 24:32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Shechem was in the territory of Ephraim.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Eleazar Dies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24:3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ried in a hill that belonged to Phinehas his son in Ephrai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943600" y="1371600"/>
            <a:ext cx="2514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ast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la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moth-Gilea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zer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324480" y="3657600"/>
            <a:ext cx="1981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st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odesh,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hechem,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ebr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3505320"/>
            <a:ext cx="320040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1143000"/>
            <a:ext cx="320040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1522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ities of Refuge (20:1-9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943600"/>
            <a:ext cx="297180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172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hat was their purpos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05160" y="30492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Inheritance of the Levites (21:1 - 21:42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3760" y="12952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ities of the Levite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0:1-4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ow many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886200"/>
            <a:ext cx="37339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:4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 Lord gave them peac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:4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ll God’s promises to Israel came to pas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:4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52880" y="3200400"/>
            <a:ext cx="4038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nd Promise Fulfilled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00800" y="83772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ities of the Levite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he Trans-Jordanic Tribes Return Home (22:1-34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oshua calls the Reubenites, Gadites and the half tribe of Manasseh togeth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is commands them to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ake heed to the law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Love the Lord your Go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alk in all His way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Keep His commandmen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leave to Him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rve Him with all your heart and all your sou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departing soldiers antagonize rest of Isra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’s Charge to the Leaders of Israel  (23:1-16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e courageous and keep all the commandments (23:6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o not go among the nations that remain (23:7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ke heed to love the Lord your God (23:11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f you mix with these nations, you shall perish from the land (23:12-13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 am going in all the ways of the earth (23:14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is warning if the forsake God (23:15-16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’s Reminds All Israel of Their History (24:1-13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our ancestors (Terah) served other go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 brought Abraham from beyond the Euphrates to the land of Canaa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ltiplied his nation through Isaac and then though Jacob and Esau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acob went down to Egyp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ses and Aaron sent and God plagued Egyp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rought Israel out of Egypt and across the Red Sea; and destroyed the Egyptia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’s Reminds All Israel of Their History (24:1-13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y dwelt in the wilderness a long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Amorites were delivered to them and you took their lan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alak, king of Moab, fought against Israel but God blessed you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ou crossed the Jordan River and God delivered all of the nations of Canaan into your ha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 gave you land you did not have to work, cities you did not build, vineyards and olive-yards you did not pla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Death of Joshua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24:29-31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ge 11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ried in Timnath-serah, his inheritance in the hill-country of Ephraim – the city he buil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5:49:04Z</dcterms:created>
  <dc:creator>Don Vines</dc:creator>
  <dc:description/>
  <dc:language>en-US</dc:language>
  <cp:lastModifiedBy>Frank D Vines</cp:lastModifiedBy>
  <dcterms:modified xsi:type="dcterms:W3CDTF">2008-09-20T19:49:02Z</dcterms:modified>
  <cp:revision>25</cp:revision>
  <dc:subject/>
  <dc:title>Joshua 20 - 24 Inheritance for the Levites</dc:title>
</cp:coreProperties>
</file>